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B504-D8AC-4BAA-888C-19D450AE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E6BF-523D-4A09-A4CB-1399D655E0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EF-FD78-4DDA-883C-C5E171E0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796-7B4E-4CA2-BD62-D1306AC7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4CD82-174C-418D-8DA4-24DEB30A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F11AB-5BE6-44DA-AE5C-EE4DCC5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6BB52-1737-4289-89A4-5258A37C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8B554-F8B7-4A00-B462-E694CB78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E54BB-495D-40BF-A603-8514181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961C5-1048-4B63-8242-5B97478B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A7E46-8EDF-44D7-8C18-8C4B7A3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456A7-B249-4153-870A-D648E267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44993-80B4-4B0D-BEA4-3D2D0AB5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4BE-0205-4F31-B697-7A041952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F90-5876-4D03-A5F5-33E4F3D9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34C77-E4E4-4E42-9787-E748BDD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86929-ED3A-425B-A270-D1EF5C7A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5D79-96F2-4107-A168-F288D6FB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F1C8-DF9C-4AFF-ADAA-FCDF9AA0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64498-B7CE-42F2-9B07-1F1BC11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0AABE-CA81-4A1F-A0AB-57D3FF55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6D5B8-140E-41FB-B2D8-7839DA6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D72-E6D0-44D7-9832-9BCF819A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3710-B8CC-4415-A1D2-CA848E2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A5E7E-D98E-449E-969F-7A5ECB7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1E4E-648E-4FC6-8110-E39A96C9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C388-46C9-4389-B5E9-98653C3C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8FEEB-2D9D-437F-B9B8-F232894C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E605-447F-4CBB-B692-2D071D2C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0FBB-2322-4104-8A12-C4AA006A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FC5DF-B200-4F09-9410-D4828A67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9470D-EB74-4518-A7A1-4F23B22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1C3C-B03E-49D3-8EA5-CAA48862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A75-F90B-4A65-8D79-7C4145CE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B858E-D4D8-4A02-AC5E-42B6175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6F50-E5DA-45BD-A1A2-55453B8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A78F-AC71-43B5-9AD7-B7B646B7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1918-5C78-47E0-96C8-79CE0E8E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158E-0CFD-45FF-8F49-9A03C04D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3420-AD00-4001-A343-7AB56CC4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70F8E-0FD4-4B52-A88F-C3022507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DD0FD3-0408-4982-BA61-21476F8E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1C8FA-060E-4416-9D3A-14CEAF3C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75551-4941-47E4-86A5-1F84D620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1D5-B7C4-45E4-BADF-BD32790A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F044C-D474-449A-B263-C6AAD3C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82CCE-1245-4EDD-B221-6513056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D4378-12D7-4B94-B6DD-23FA194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51FBD1-4EDA-4EF9-90CA-0038566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BAD74-0EF9-4AAF-8E36-CA2C2881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4C079-3948-4098-9417-B5AFC335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0797F-AAAB-4C08-B0D8-6CC7A4F3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3B0D8-95BC-4FDE-97C3-1EE61EAD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794F6C-92F8-4482-87D8-287691C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97DF-C1D9-4A44-9E03-6284DDE4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4CA-5B8A-407E-898E-27D9F50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DB3A-64B5-443A-8274-7E40E9CA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D288-E384-4154-BA4D-9B30CD0D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52D14-7ECE-441A-828E-E34A9792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A3DEA-48F6-40BF-9EDC-E9E2790F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E6529-82D7-481B-AD9F-B0D39F22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1C56-39A7-4B76-A112-39177196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7441-357D-424B-AC8D-3353373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F53F9-9647-49AE-AF34-225DF44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4586-5FBE-49F2-8BDE-8BCEC90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424B5-23A7-44EA-AF32-6C2E7880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4F6-A862-4091-996B-21B4D285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4C07F-0F02-47BF-AF43-A8F69A95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6648F-6EC9-4771-A014-5F83DC1F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FAAF-8B25-4A30-B0F0-3618C830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5DB1-576E-44C8-8F86-8AEC0EB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E34C-ED93-4A7B-906A-F0FC4F9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6B216-81DB-438B-BC99-5C4ED0A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D116-3C63-43C8-9273-F592B11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438A-6116-420B-9C96-2F2528F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17367-29FE-451B-B73F-C1BBB4E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DF35-80E3-4849-A389-18391914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F55-C061-4CF7-816E-895BC3E0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8938-61C3-494C-A1D3-C5E3A967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DF44-0FC6-478E-BD83-CD0E0EB3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24D70-D440-4004-A82B-A571E105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8D9D-AA23-4D20-83B2-9C304FBE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5C5DC-F040-490C-8E06-9BEBF88A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1B40-C8E9-47F8-BF0C-5E6A891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D792-2976-4692-A237-23FB1BC8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3DCB-DA14-4090-A2F9-5874E464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DA58-5A0E-49C1-A798-83D5EB7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9F89-01C4-4E9C-86C0-90F62E1B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9CA-4393-4D85-9AB8-F66335F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AF7BB-20B6-446F-A832-A889892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470D6-B30B-40A3-9F51-4DE7DB33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B0A2-2E77-4253-BBA4-033319E9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572AF-ECC0-4C6B-903F-19F45548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7EDB2-8AC3-4FF7-94E8-A69ADB14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50511-75E7-4FB2-88B2-63268D81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4BE0E-53C2-49A4-AAF4-D678EF83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64D20F-BF2A-4310-8FEA-5CFB3BD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B2859-8969-4830-8435-395A8117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AE0C55-6BA2-43FE-BD02-502FBC7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4E6-20AF-4CCF-A863-5284710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507960" y="28080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1598F-4B9B-4027-9785-EA669663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7EAAE-1CE6-474A-9A6E-4116928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7795EE-6E63-4C7E-B023-20B2D97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4F4028-0099-448F-BA10-0C36FAED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7960" y="445572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90D25-4609-46D4-8D82-9716279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93720" y="1828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0796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193720" y="445572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0225A-830E-4FD6-8944-B647BCA5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9964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691320" y="1828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796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9964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691320" y="445572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868CDD-F8EF-4491-A7EF-6DF58A17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0B9DA-11CF-4B55-8C8C-1F476784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0D93D-3E13-4C1B-8E4E-640E6335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2E65D-B42E-4F38-A585-F5ABBB09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873-B0D3-45F1-B017-9FD92A5FF4C6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71360" y="152280"/>
            <a:ext cx="9820440" cy="2803680"/>
            <a:chOff x="171360" y="152280"/>
            <a:chExt cx="9820440" cy="280368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20440" cy="280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79360" y="258840"/>
              <a:ext cx="9601200" cy="25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179760" y="72327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9599760" y="7232760"/>
            <a:ext cx="51408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0EBE-7DD2-4085-B40C-58914743B7DC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778040" y="7232760"/>
            <a:ext cx="434160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C7CB-1380-471F-9A8F-15CCF921214B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111320" y="3630600"/>
            <a:ext cx="82296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179760" y="7237080"/>
            <a:ext cx="333684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9599760" y="723708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C35-58B8-41D2-B1B8-E271FE0CBD2F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778040" y="7237080"/>
            <a:ext cx="434160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9600840" y="7238520"/>
            <a:ext cx="5158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3A63-732C-4259-BCCF-96D500D8852E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85800" y="2405160"/>
            <a:ext cx="416556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334120" y="2405160"/>
            <a:ext cx="416556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9600840" y="7238520"/>
            <a:ext cx="5158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A5B-FA68-4965-94E9-2402E8282F3E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71360" y="152280"/>
            <a:ext cx="9813960" cy="7315200"/>
            <a:chOff x="171360" y="152280"/>
            <a:chExt cx="9813960" cy="73152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71360" y="152280"/>
              <a:ext cx="9813960" cy="731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34880" y="415800"/>
              <a:ext cx="9285480" cy="67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654120" y="1582560"/>
            <a:ext cx="888984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179760" y="71121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439640" y="7112160"/>
            <a:ext cx="46796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9599760" y="723852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656-D8A4-47E0-A4DF-38E37CA79D31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619600" y="1174680"/>
            <a:ext cx="4165920" cy="111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179760" y="7237080"/>
            <a:ext cx="333684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9599760" y="7237080"/>
            <a:ext cx="51408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239-91C0-44AB-B1CD-991501971F19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778040" y="7237080"/>
            <a:ext cx="4341600" cy="304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960" y="28080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marL="60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51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1" marL="709560" indent="-25236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2" marL="912960" indent="-2127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3" marL="111600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4" marL="1319040" indent="-20160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5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lvl="6" marL="1319040" indent="-20160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179760" y="7232760"/>
            <a:ext cx="333684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9599760" y="7232760"/>
            <a:ext cx="51408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ACB7-4510-4A2B-90C2-FE05AD00CA24}" type="slidenum">
              <a:rPr b="0" lang="en-US" sz="18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778040" y="7232760"/>
            <a:ext cx="4341600" cy="304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122400" y="401760"/>
            <a:ext cx="9509040" cy="17985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327480" y="6477120"/>
            <a:ext cx="661824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yce P. Rishi S. Jay S.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3" name="Picture 2" descr="http://t1.gstatic.com/images?q=tbn:ANd9GcRcFWhsUzEe0ComU4uIM2Bnx_S9NJLECyeJUjf62j1JiDmhl9kl5Q"/>
          <p:cNvPicPr/>
          <p:nvPr/>
        </p:nvPicPr>
        <p:blipFill>
          <a:blip r:embed="rId2"/>
          <a:stretch/>
        </p:blipFill>
        <p:spPr>
          <a:xfrm>
            <a:off x="2413080" y="2971800"/>
            <a:ext cx="43956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1" descr=""/>
          <p:cNvPicPr/>
          <p:nvPr/>
        </p:nvPicPr>
        <p:blipFill>
          <a:blip r:embed="rId1"/>
          <a:stretch/>
        </p:blipFill>
        <p:spPr>
          <a:xfrm>
            <a:off x="55440" y="-23760"/>
            <a:ext cx="9601200" cy="1584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TextBox 1"/>
          <p:cNvSpPr/>
          <p:nvPr/>
        </p:nvSpPr>
        <p:spPr>
          <a:xfrm>
            <a:off x="279360" y="1600200"/>
            <a:ext cx="9601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Healthy Type 2 Diabetes Diet: Carbohydrates, Fiber, Salt and Fat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MD Diabetes Center: Types, Causes, Symptoms, Tests, and Treat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diabetes.webmd.com/eating-right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Exercising With Type 2 Diabetes: Benefits &amp; Guidelines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MD Diabetes Center: Types, Causes, Symptoms, Tests, and Treat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diabetes.webmd.com/guide/exercise-guidelines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LATA, GINA. "Type 2 Diabetes - Symptoms, Diagnosis, Treatment of Type 2 Diabetes - NY Times Health Information ."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lth News - The New York Ti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.p., n.d. Web. 31 Aug. 2011. &lt;http://health.nytimes.com/health/guides/disease/type-2-diabetes/overview.html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0796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24000" indent="-32400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ral Diabetes Pills: Sulfonylureas, Biguanides, and More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MD Diabetes Center: Types, Causes, Symptoms, Tests, and Treat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31 Aug. 2011. &lt;http://diabetes.webmd.com/guide/oral-medicine-pills-treat-diabetes&gt;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elping a Family Member Who Has Diabetes -- familydoctor.org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information for the whole family -- familydoctor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2 Sept. 2011. &lt;http://familydoctor.org/online/famdocen/home/common/diabetes/living/353.html#ArticleParsysMiddleColumn0003&gt;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ffects Of Type 2 Diabetes On A Family | LIVESTRONG.COM."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RONG.COM - Lose Weight &amp; Get Fit with Diet, Nutrition &amp; Fitness T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.p., n.d. Web. 2 Sept. 2011. &lt;http://www.livestrong.com/article/222477-effects-of-type-2-diabetes-on-a-family/&gt;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Hilborn, Michael, Mary Bronson Merki, and Don Merki. </a:t>
            </a:r>
            <a:r>
              <a:rPr b="0" i="1" lang="en-US" sz="2000" spc="-1" strike="noStrike">
                <a:solidFill>
                  <a:srgbClr val="000000"/>
                </a:solidFill>
                <a:latin typeface="Rockwell"/>
              </a:rPr>
              <a:t>Glencoe health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. Toronto: McGraw-Hill Ryerson, 2004. Pri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8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Rectangle 1" descr=""/>
          <p:cNvPicPr/>
          <p:nvPr/>
        </p:nvPicPr>
        <p:blipFill>
          <a:blip r:embed="rId1"/>
          <a:stretch/>
        </p:blipFill>
        <p:spPr>
          <a:xfrm>
            <a:off x="55440" y="-23760"/>
            <a:ext cx="960120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-36360" y="128520"/>
            <a:ext cx="10075680" cy="14810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is a disease that occurs when a person's body does not make enough insulin or, can't use insulin properly. It is mostly a lifestyle disease for people that are obese. It also can be hereditary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4" descr="http://jdca2025.files.wordpress.com/2011/08/diabetes-main_full.jpg"/>
          <p:cNvPicPr/>
          <p:nvPr/>
        </p:nvPicPr>
        <p:blipFill>
          <a:blip r:embed="rId2"/>
          <a:stretch/>
        </p:blipFill>
        <p:spPr>
          <a:xfrm>
            <a:off x="6375240" y="4952880"/>
            <a:ext cx="3581640" cy="23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-66600" y="249120"/>
            <a:ext cx="10333080" cy="17384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started in the first century, in Greek. It was because of frequent urination by people, It turns out the cause of the frequent urination was Diabet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2" descr="http://t2.gstatic.com/images?q=tbn:ANd9GcQ-Z8V2mskQ8wXWRHlIGTRCMKqweSG-z-wGzMt4mdiWsaH4hSW71g"/>
          <p:cNvPicPr/>
          <p:nvPr/>
        </p:nvPicPr>
        <p:blipFill>
          <a:blip r:embed="rId2"/>
          <a:stretch/>
        </p:blipFill>
        <p:spPr>
          <a:xfrm>
            <a:off x="4013280" y="4495680"/>
            <a:ext cx="182880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-6480" y="73080"/>
            <a:ext cx="10120320" cy="125568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hydrat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los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usea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rred vis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t Urination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fections than usual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2" name="Picture 3" descr="dehydration.gif"/>
          <p:cNvPicPr/>
          <p:nvPr/>
        </p:nvPicPr>
        <p:blipFill>
          <a:blip r:embed="rId2"/>
          <a:stretch/>
        </p:blipFill>
        <p:spPr>
          <a:xfrm>
            <a:off x="5384880" y="1981080"/>
            <a:ext cx="398628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92160" y="96840"/>
            <a:ext cx="9947160" cy="14572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term- You must manage diet, exercise, take medication, use some of insuli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term- Maintain proper circulation, manage stress, also exercise and eat right as well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311040" indent="-31104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response/effect- It creates a lot of stress for your family member. You should help your family member change their diet and be sympathetic towards them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133200" y="152280"/>
            <a:ext cx="10120320" cy="1249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lood sugar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medicin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 and eat right.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no other treatment for diabetes.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2" descr="http://info.inter-spas.com/Portals/102385/images/tread.gif"/>
          <p:cNvPicPr/>
          <p:nvPr/>
        </p:nvPicPr>
        <p:blipFill>
          <a:blip r:embed="rId2"/>
          <a:stretch/>
        </p:blipFill>
        <p:spPr>
          <a:xfrm>
            <a:off x="6026040" y="-304920"/>
            <a:ext cx="413388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146160" y="1752480"/>
            <a:ext cx="95486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e is a total of 25.8 million children and adults with diabetes in the U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0" name="Picture 2" descr="http://www.nichd.nih.gov/research/supported/images/skd238517sdc.jpg"/>
          <p:cNvPicPr/>
          <p:nvPr/>
        </p:nvPicPr>
        <p:blipFill>
          <a:blip r:embed="rId2"/>
          <a:stretch/>
        </p:blipFill>
        <p:spPr>
          <a:xfrm>
            <a:off x="2793960" y="3200400"/>
            <a:ext cx="27432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79360" y="1676520"/>
            <a:ext cx="946008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6 million Dollars is directed to the medical cost for diabetes type 2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mindmillion.com/images/money/01-large-cartoon-cash.gif"/>
          <p:cNvPicPr/>
          <p:nvPr/>
        </p:nvPicPr>
        <p:blipFill>
          <a:blip r:embed="rId2"/>
          <a:stretch/>
        </p:blipFill>
        <p:spPr>
          <a:xfrm>
            <a:off x="2336760" y="3124080"/>
            <a:ext cx="3581280" cy="365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02680" y="1599840"/>
            <a:ext cx="950292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 type 2 is the most common out of type 1 Diabetes and type 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.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Rectangle 1" descr=""/>
          <p:cNvPicPr/>
          <p:nvPr/>
        </p:nvPicPr>
        <p:blipFill>
          <a:blip r:embed="rId1"/>
          <a:stretch/>
        </p:blipFill>
        <p:spPr>
          <a:xfrm>
            <a:off x="55440" y="73080"/>
            <a:ext cx="10125360" cy="1255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http://images.meredith.com/dlv/images/2008/12/ss_01.jpg"/>
          <p:cNvPicPr/>
          <p:nvPr/>
        </p:nvPicPr>
        <p:blipFill>
          <a:blip r:embed="rId2"/>
          <a:stretch/>
        </p:blipFill>
        <p:spPr>
          <a:xfrm>
            <a:off x="3022560" y="29718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harma</cp:lastModifiedBy>
  <dcterms:modified xsi:type="dcterms:W3CDTF">2011-09-03T14:19:07Z</dcterms:modified>
  <cp:revision>9</cp:revision>
  <dc:subject/>
  <dc:title>PowerPoint Presentation</dc:title>
</cp:coreProperties>
</file>